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AF4-1770-43B3-A5B4-729BF7D1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E04-7FB5-4019-A9CE-834114AB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02F-44D4-4A28-9B14-3C6B8796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921-9795-4CE9-A89E-8FB0FF58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E7C-D839-4B10-A57C-A2447374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77A-1356-44C2-B2F4-CC06BBF4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096-AAAC-4638-8B54-C0DA5F7E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7A5-70B3-478B-ABD7-C33D3420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CA5-3C40-4166-A15B-666338E3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04C-22C2-43CF-AEB4-E614971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ECF-2468-44D1-B5AF-0FD95DC4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096-A15A-47F0-9A04-F517F63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4616-189F-4EC3-9476-36A384F066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440" y="262080"/>
            <a:ext cx="8207280" cy="1922760"/>
          </a:xfrm>
          <a:prstGeom prst="rect">
            <a:avLst/>
          </a:prstGeom>
          <a:solidFill>
            <a:srgbClr val="2c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华文琥珀"/>
                <a:ea typeface="华文琥珀"/>
              </a:rPr>
              <a:t>Unit 1 My name’s Gi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684360" y="907920"/>
            <a:ext cx="7775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umber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lish name 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4280" y="836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4280" y="171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9080" y="2567160"/>
            <a:ext cx="33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Peng  S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7240" y="350208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Cin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1266840" y="620640"/>
            <a:ext cx="66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What’s your na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B: My name is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Gina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Nice to mee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B: Nice to mee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60440" y="3789360"/>
            <a:ext cx="5039280" cy="274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your na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你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my na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新魏"/>
              </a:rPr>
              <a:t>Nice to meet you!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很高兴认识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1266120" y="620640"/>
            <a:ext cx="623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What’s her na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B: Her name is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ina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68640" y="2637000"/>
            <a:ext cx="567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: What’s his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B: His name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lan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41240" y="4533840"/>
            <a:ext cx="4389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her nam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她的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his nam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他的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2" name=""/>
          <p:cNvGraphicFramePr/>
          <p:nvPr/>
        </p:nvGraphicFramePr>
        <p:xfrm>
          <a:off x="255600" y="2781360"/>
          <a:ext cx="8637480" cy="1749240"/>
        </p:xfrm>
        <a:graphic>
          <a:graphicData uri="http://schemas.openxmlformats.org/drawingml/2006/table">
            <a:tbl>
              <a:tblPr/>
              <a:tblGrid>
                <a:gridCol w="2160360"/>
                <a:gridCol w="1619280"/>
                <a:gridCol w="1619280"/>
                <a:gridCol w="1619280"/>
                <a:gridCol w="1619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 it, pl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your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140360" y="3716280"/>
            <a:ext cx="142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640" y="177840"/>
            <a:ext cx="876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Task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了解小组成员的名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你可能会用到以下的对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A: What’s your name?  </a:t>
            </a:r>
            <a:r>
              <a:rPr b="1" lang="zh-CN" sz="4000" spc="-1" strike="noStrike">
                <a:solidFill>
                  <a:srgbClr val="0033cc"/>
                </a:solidFill>
                <a:latin typeface="Arial Narrow"/>
              </a:rPr>
              <a:t>B: My name is G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A: Spell it, please.         </a:t>
            </a:r>
            <a:r>
              <a:rPr b="1" lang="zh-CN" sz="4000" spc="-1" strike="noStrike">
                <a:solidFill>
                  <a:srgbClr val="0033cc"/>
                </a:solidFill>
                <a:latin typeface="Arial Narrow"/>
              </a:rPr>
              <a:t>B: G-I-N-A, G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3876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312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724280"/>
            <a:ext cx="856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然后向全班介绍小组各成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例如：</a:t>
            </a:r>
            <a:r>
              <a:rPr b="1" lang="zh-CN" sz="4000" spc="-1" strike="noStrike">
                <a:solidFill>
                  <a:srgbClr val="660066"/>
                </a:solidFill>
                <a:latin typeface="Arial Narrow"/>
              </a:rPr>
              <a:t>My name is Alan. Her name is Gina. Her name is Alice. His name is J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15200" y="605808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4" name=""/>
          <p:cNvGraphicFramePr/>
          <p:nvPr/>
        </p:nvGraphicFramePr>
        <p:xfrm>
          <a:off x="684360" y="3716280"/>
          <a:ext cx="7986600" cy="2808360"/>
        </p:xfrm>
        <a:graphic>
          <a:graphicData uri="http://schemas.openxmlformats.org/drawingml/2006/table">
            <a:tbl>
              <a:tblPr/>
              <a:tblGrid>
                <a:gridCol w="2087280"/>
                <a:gridCol w="1474920"/>
                <a:gridCol w="1474920"/>
                <a:gridCol w="1474560"/>
                <a:gridCol w="1474920"/>
              </a:tblGrid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 it, pl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her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his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4284720" y="45086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558972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6028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ask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小组成员的名字（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glish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可能会听到以下的对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What’s your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: My name is 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Spell it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: G-I-N-A, 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950760" y="447840"/>
            <a:ext cx="75088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作业：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新魏"/>
              </a:rPr>
              <a:t>抄写词组和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my na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your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his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her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your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My name is Gin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his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her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Nice to meet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219240"/>
            <a:ext cx="8207280" cy="1008360"/>
          </a:xfrm>
          <a:prstGeom prst="rect">
            <a:avLst/>
          </a:prstGeom>
          <a:solidFill>
            <a:srgbClr val="2c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华文琥珀"/>
                <a:ea typeface="华文琥珀"/>
              </a:rPr>
              <a:t>See you next ti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3:11:20Z</dcterms:created>
  <dc:creator>yanjun</dc:creator>
  <dc:description/>
  <dc:language>en-US</dc:language>
  <cp:lastModifiedBy>星沙英语网</cp:lastModifiedBy>
  <dcterms:modified xsi:type="dcterms:W3CDTF">2005-04-29T06:57:53Z</dcterms:modified>
  <cp:revision>8</cp:revision>
  <dc:subject/>
  <dc:title>幻灯片 1</dc:title>
</cp:coreProperties>
</file>